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1B5-67D0-444C-AF03-931E1ECC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CA9-E7AD-4C8C-9A63-92A91315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609-5693-4255-B482-0C320273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FAA-B784-4F6A-8CCB-798AA9BD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611-2A73-46B6-BA98-74E01CA7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EA6-20E7-430A-B19A-92B2CBBA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7A5-BE8F-4016-BE4F-2EE6EE03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FC5-3299-4CB4-84B8-7E604BE2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4EC-4E0A-4CB6-B00F-C80339EC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055-B46F-4E40-A93C-7665C471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C45-924D-47D8-8157-7452B567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8B8-E830-4389-9EB0-DFD7C416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8688-E30F-4643-86FD-463AF1BD5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hi Square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R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 Cohort 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93432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3003480"/>
            <a:ext cx="693432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92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162920" cy="1085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066680" y="3035160"/>
            <a:ext cx="716292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920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162920" cy="109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90720" y="3200400"/>
            <a:ext cx="7162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920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2997360"/>
            <a:ext cx="7162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4800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52480" y="-476280"/>
            <a:ext cx="4851360" cy="952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5715000"/>
            <a:ext cx="7086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One way  to compute P-value:   Use Z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2120" y="5181480"/>
            <a:ext cx="74674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Another way to compute P value: Divide the area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right tail of the chi square distribution in ha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315200" cy="335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91320" y="4038480"/>
            <a:ext cx="18288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3390840"/>
            <a:ext cx="7315200" cy="876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315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3505320"/>
            <a:ext cx="7315200" cy="838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38080" y="4495680"/>
            <a:ext cx="73152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486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555480" cy="60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29400" y="52578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629400" y="5181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72560" y="5348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467480" y="5257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91520" y="51055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81680" y="541008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16256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352680" cy="3733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19320" y="320040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91320" y="304812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hould be significant because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9600" y="449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62520" y="3733920"/>
            <a:ext cx="19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Sided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914400"/>
            <a:ext cx="4572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t there is a problem 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3657600"/>
            <a:ext cx="220968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5105520"/>
            <a:ext cx="778824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Large values of a chi square statistic that might indica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significant result can occur from either large positiv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large negative values of the normal stat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13:12:04Z</dcterms:modified>
  <cp:revision>43</cp:revision>
  <dc:subject/>
  <dc:title>PowerPoint Presentation</dc:title>
</cp:coreProperties>
</file>